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0AB8-D84D-4529-83AD-DC185833A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B2D9-F60C-4560-B7A1-8B64B853E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E574-4CF8-4EED-A83A-C7CC3F13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D62-6F7B-4FB9-ADD7-252DAE77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6261-BDBF-46C1-9A85-79F58966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10F5-83D4-40CC-926E-095E8559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0A5-5E7E-41C4-B27C-8A4C5C68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6DAF-E022-436C-8AC2-252278DA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BAC-2841-4589-9364-93D28267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05B-1D68-4AF8-9499-D12D1478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B255-660B-4B2B-B7CA-A46C14EE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ABA2-9D32-40C6-A0FB-AF5DC9AA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632E-B9C9-4389-8B51-3CD2FA13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937B-EEFF-41BA-9234-FF5D38D2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386B-0956-4A38-A1BA-F16329B54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ania Elsanho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ania Elsanho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ania Elsanhoury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ania Elsanhour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ania Elsanhour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Rania. Yo vivo en New York .Tengo 14 años. Yo tengo una hermana y dos hermanos.  Yo soy muy calmada. Yo y mis amigos tenemos padres.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Mis amigos no tienen hermanos pero tengo 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             Mo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4008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¡Super! ¿Monica la maravillosa y Christy la lo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pueden ir a comer helado?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R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¡Buenos dias! ¡Yo quiero ir a comer helado!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Nos vemo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ablamos luego. Adios &lt;3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ar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En serio quién quiere ir a comer helado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R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¡Hola mi lindas amigas! Yo puedo ir pero ella no puede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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Mo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www ¿por qué? ¿cuándo y dónde tú quieres verme?                                      R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ñana en la mancha en mi casa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Ciao nosotros nos vemos ahí                    Mo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209680" y="1905120"/>
            <a:ext cx="373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Hola bonitas! Yo tengo hambre. ¿Quién quiere ir a comer helado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773640" y="640080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9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1295280" cy="1565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9" descr=""/>
          <p:cNvPicPr/>
          <p:nvPr/>
        </p:nvPicPr>
        <p:blipFill>
          <a:blip r:embed="rId2"/>
          <a:stretch/>
        </p:blipFill>
        <p:spPr>
          <a:xfrm>
            <a:off x="2209680" y="2514600"/>
            <a:ext cx="457200" cy="552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9" descr=""/>
          <p:cNvPicPr/>
          <p:nvPr/>
        </p:nvPicPr>
        <p:blipFill>
          <a:blip r:embed="rId3"/>
          <a:stretch/>
        </p:blipFill>
        <p:spPr>
          <a:xfrm>
            <a:off x="2209680" y="3809880"/>
            <a:ext cx="457200" cy="552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"/>
          <p:cNvPicPr/>
          <p:nvPr/>
        </p:nvPicPr>
        <p:blipFill>
          <a:blip r:embed="rId4"/>
          <a:stretch/>
        </p:blipFill>
        <p:spPr>
          <a:xfrm>
            <a:off x="2133720" y="5181480"/>
            <a:ext cx="457200" cy="552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"/>
          <p:cNvPicPr/>
          <p:nvPr/>
        </p:nvPicPr>
        <p:blipFill>
          <a:blip r:embed="rId5"/>
          <a:stretch/>
        </p:blipFill>
        <p:spPr>
          <a:xfrm>
            <a:off x="2082960" y="3200400"/>
            <a:ext cx="660240" cy="495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"/>
          <p:cNvPicPr/>
          <p:nvPr/>
        </p:nvPicPr>
        <p:blipFill>
          <a:blip r:embed="rId6"/>
          <a:stretch/>
        </p:blipFill>
        <p:spPr>
          <a:xfrm>
            <a:off x="2057400" y="4495680"/>
            <a:ext cx="62064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1" descr=""/>
          <p:cNvPicPr/>
          <p:nvPr/>
        </p:nvPicPr>
        <p:blipFill>
          <a:blip r:embed="rId7"/>
          <a:stretch/>
        </p:blipFill>
        <p:spPr>
          <a:xfrm>
            <a:off x="2057400" y="5943600"/>
            <a:ext cx="62064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1" descr=""/>
          <p:cNvPicPr/>
          <p:nvPr/>
        </p:nvPicPr>
        <p:blipFill>
          <a:blip r:embed="rId8"/>
          <a:stretch/>
        </p:blipFill>
        <p:spPr>
          <a:xfrm>
            <a:off x="152280" y="5257800"/>
            <a:ext cx="533520" cy="458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0" descr=""/>
          <p:cNvPicPr/>
          <p:nvPr/>
        </p:nvPicPr>
        <p:blipFill>
          <a:blip r:embed="rId9"/>
          <a:stretch/>
        </p:blipFill>
        <p:spPr>
          <a:xfrm>
            <a:off x="762120" y="525780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2" descr=""/>
          <p:cNvPicPr/>
          <p:nvPr/>
        </p:nvPicPr>
        <p:blipFill>
          <a:blip r:embed="rId10"/>
          <a:stretch/>
        </p:blipFill>
        <p:spPr>
          <a:xfrm>
            <a:off x="1447920" y="5257800"/>
            <a:ext cx="533160" cy="442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3" descr=""/>
          <p:cNvPicPr/>
          <p:nvPr/>
        </p:nvPicPr>
        <p:blipFill>
          <a:blip r:embed="rId11"/>
          <a:stretch/>
        </p:blipFill>
        <p:spPr>
          <a:xfrm>
            <a:off x="152280" y="5943600"/>
            <a:ext cx="457200" cy="41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4" descr=""/>
          <p:cNvPicPr/>
          <p:nvPr/>
        </p:nvPicPr>
        <p:blipFill>
          <a:blip r:embed="rId12"/>
          <a:stretch/>
        </p:blipFill>
        <p:spPr>
          <a:xfrm>
            <a:off x="762120" y="594360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35:05Z</dcterms:created>
  <dc:creator>FriscoISD</dc:creator>
  <dc:description/>
  <dc:language>en-US</dc:language>
  <cp:lastModifiedBy>admin</cp:lastModifiedBy>
  <dcterms:modified xsi:type="dcterms:W3CDTF">2013-01-03T01:52:18Z</dcterms:modified>
  <cp:revision>109</cp:revision>
  <dc:subject/>
  <dc:title>Profile</dc:title>
</cp:coreProperties>
</file>